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A51-8169-4B4D-B1F8-A62A06D1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837-7E6D-459E-AED3-C576369E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DF4-0807-4829-ADD8-9AB1B68A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F7A-2DF6-44BE-A0AF-88965923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697-F10B-475E-9267-E22E544A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CA5-9EC8-442C-B90D-9E8E687A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A1F-5C4C-46EF-9B73-266D1031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1D3-8CB7-4A71-BC2B-2C0B5F64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70C-E8FB-4295-A417-457D3B7C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40F-D7C3-4D97-8964-306782C7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FC8-494A-472E-A262-7007C743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979-FA42-4DEB-93E4-AF00D0CD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C418-23CA-44F7-9451-E456005EF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loc.gov/rr/print/swann/herblock/images/s03535u.jpg" TargetMode="External"/><Relationship Id="rId3" Type="http://schemas.openxmlformats.org/officeDocument/2006/relationships/hyperlink" Target="http://www.loc.gov/rr/print/swann/herblock/object.html#repro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Marker Felt"/>
              </a:rPr>
              <a:t>Separate, but Equal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Education in the Jim Crow So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Marker Felt"/>
              </a:rPr>
              <a:t>Guiding Question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Why would segregated schools be inherently unequ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What is equality in educ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Can laws create equa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Can people be forced to mix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http://students.spsu.edu/aarmstr2/home-feature3.jpg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45292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5091120" cy="5410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15080" y="617220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students.spsu.edu/aarmstr2/home-feature1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371840" cy="693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0" y="304920"/>
            <a:ext cx="18288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Marker Felt"/>
                <a:hlinkClick r:id="rId2"/>
              </a:rPr>
              <a:t>"... One nation ... indivisible ...,"</a:t>
            </a:r>
            <a:r>
              <a:rPr b="1" lang="en-US" sz="1600" spc="-1" strike="noStrike">
                <a:solidFill>
                  <a:srgbClr val="33330a"/>
                </a:solidFill>
                <a:latin typeface="Marker Felt"/>
              </a:rPr>
              <a:t> February 22, 1977 Ink, graphite, and opaque white, with tonal film overlay and porous point pen over graphite underdrawing on paper  Published in the </a:t>
            </a:r>
            <a:r>
              <a:rPr b="1" i="1" lang="en-US" sz="1600" spc="-1" strike="noStrike">
                <a:solidFill>
                  <a:srgbClr val="33330a"/>
                </a:solidFill>
                <a:latin typeface="Marker Felt"/>
              </a:rPr>
              <a:t>Washington Post</a:t>
            </a:r>
            <a:r>
              <a:rPr b="1" lang="en-US" sz="1600" spc="-1" strike="noStrike">
                <a:solidFill>
                  <a:srgbClr val="33330a"/>
                </a:solidFill>
                <a:latin typeface="Marker Felt"/>
              </a:rPr>
              <a:t> (83)  </a:t>
            </a:r>
            <a:r>
              <a:rPr b="0" lang="en-US" sz="1600" spc="-1" strike="noStrike" u="sng">
                <a:solidFill>
                  <a:srgbClr val="00ffff"/>
                </a:solidFill>
                <a:uFillTx/>
                <a:latin typeface="Marker Felt"/>
                <a:hlinkClick r:id="rId3"/>
              </a:rPr>
              <a:t>LC-USZ62-12688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963"/>
                </a:solidFill>
                <a:latin typeface="Marker Felt"/>
              </a:rPr>
              <a:t>"... One nation ... indivisible ..."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Marker Felt"/>
              </a:rPr>
              <a:t>On February 22, 1977, newly-elected President Jimmy Carter submitted his budget to Congress. It included an additional $350 million in school aid for poor children; extra millions in grants and work-study programs for college students; and sought a reduction in congressional funds for school districts with large numbers of federal employees. Herb Block's cartoon is a reminder of the divisions in one nation.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21:05:50Z</dcterms:created>
  <dc:creator>Katherine Bell</dc:creator>
  <dc:description/>
  <dc:language>en-US</dc:language>
  <cp:lastModifiedBy>Katherine Bell</cp:lastModifiedBy>
  <dcterms:modified xsi:type="dcterms:W3CDTF">2009-06-27T12:52:55Z</dcterms:modified>
  <cp:revision>3</cp:revision>
  <dc:subject/>
  <dc:title>Separate, but Equal?</dc:title>
</cp:coreProperties>
</file>